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1FF0-A150-48DD-AAEE-0262FD568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2719-BAF8-4224-A676-F44D4095C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5BF6-D13A-4F9E-97D4-CDE68A299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0DB2-7C5F-4DEE-8407-D9178D59D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5FDB-CBFC-46F7-8E04-60488E8C6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59CE-B416-4CB6-8046-C4387E455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CA74-E124-4DDB-B0E9-EBB2B3FD5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B86E-9EB4-4297-8FA9-A1359CC1F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4C3D-AF85-4A5F-8B2D-D1E4CC1A8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AEBD-3C1D-4E31-9B7F-1A337731D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2AEC-5F88-4FA2-A39E-697EEAE2C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4811-8909-412F-9CD2-F85503E8E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D6B8A-3331-4255-A56A-2E3528A780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06400" y="4282920"/>
            <a:ext cx="854712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hapter 11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821960" y="5806800"/>
            <a:ext cx="7107480" cy="66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98989"/>
                </a:solidFill>
                <a:latin typeface="Arial"/>
              </a:rPr>
              <a:t>Introduction to Geneti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454120" y="592200"/>
            <a:ext cx="517716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46000" y="1184400"/>
            <a:ext cx="8701200" cy="52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49200" y="512640"/>
            <a:ext cx="9383760" cy="31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GENOTYPE  -  what genes, letters, the organism has (TT, Tt, tt)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HENOTYPE   - what it looks like (tall or short)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048120" y="3860640"/>
            <a:ext cx="4282920" cy="32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015920" y="1523880"/>
            <a:ext cx="7631280" cy="5724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49200" y="304920"/>
            <a:ext cx="813276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et's review what you know about genetics...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47680" y="203040"/>
            <a:ext cx="9545760" cy="68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heck for understand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  A one-eyed purple people eater is crossed with a two eyed purple people eater.  All of their offspring have two eyes.   Which trait is domina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  If you use the letter E for th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.   What is the genotype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ffspring?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   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these offspring the F1 o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2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  If you crossed the offspring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each other?  How many ofthe new offspring would you expect to have two ey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112160" y="2743200"/>
            <a:ext cx="2376360" cy="30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46160" y="309240"/>
            <a:ext cx="9780480" cy="698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ore chec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5.   The passing of traits from parents to offspring is known as  ___________________________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6.  Who was the father of genetics?  __________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7.  A single gene will code for a _______________, such as flower color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8.  Every gene is made of two ______________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98080" y="50760"/>
            <a:ext cx="93092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Who was Gregor Mendel?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8440" y="1066680"/>
            <a:ext cx="9055080" cy="26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 was known as the “FATHER OF GENETICS”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 discovered how traits were inherit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22160" y="2844720"/>
            <a:ext cx="4397400" cy="31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GENETIC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– study of hered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HEREDIT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– the passing of traits from parents to offsp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994360" y="3352680"/>
            <a:ext cx="293868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52240" y="355320"/>
            <a:ext cx="9055080" cy="6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ndel’s Pe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1150920"/>
            <a:ext cx="9223200" cy="42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endel did his study on pea plant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Pea plants have many traits (tall/short, purple flowers/white flowers)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Pea plants can be</a:t>
            </a:r>
            <a:br>
              <a:rPr sz="4200"/>
            </a:br>
            <a:r>
              <a:rPr b="0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self-fertilized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or </a:t>
            </a:r>
            <a:br>
              <a:rPr sz="4200"/>
            </a:br>
            <a:r>
              <a:rPr b="0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-fertilized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418000" y="3132000"/>
            <a:ext cx="3907080" cy="42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8080" y="304560"/>
            <a:ext cx="905508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Types of Plant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2600" y="1405080"/>
            <a:ext cx="9138960" cy="49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True-Breeding - these plants always create plants that look like themselv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Hybrids – offspring of true-breeding plant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Tall x Short = Hybrid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52240" y="355320"/>
            <a:ext cx="905508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Dominance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1488960"/>
            <a:ext cx="9055080" cy="49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ome traits are dominant over others.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all x Short = all tall offspring (hybrids)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*Tall is the </a:t>
            </a:r>
            <a:r>
              <a:rPr b="0" lang="en-US" sz="4300" spc="-1" strike="noStrike" u="sng">
                <a:solidFill>
                  <a:srgbClr val="000000"/>
                </a:solidFill>
                <a:uFillTx/>
                <a:latin typeface="Arial"/>
              </a:rPr>
              <a:t>dominant</a:t>
            </a: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 trai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* Short is </a:t>
            </a:r>
            <a:r>
              <a:rPr b="0" lang="en-US" sz="4300" spc="-1" strike="noStrike" u="sng">
                <a:solidFill>
                  <a:srgbClr val="000000"/>
                </a:solidFill>
                <a:uFillTx/>
                <a:latin typeface="Arial"/>
              </a:rPr>
              <a:t>recessiv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52240" y="355320"/>
            <a:ext cx="905508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s and Allel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2600" y="1828800"/>
            <a:ext cx="9055080" cy="30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endel discovered that each trait is controlled by two factors (alleles)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Genes – factors that determine your trait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4120" y="203040"/>
            <a:ext cx="896472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Mendel’s Experiment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7162920"/>
            <a:ext cx="3043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w the cro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52240" y="355320"/>
            <a:ext cx="905508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Explaining the Cros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2600" y="1822320"/>
            <a:ext cx="9165960" cy="32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a parent makes sperm or eggs, their genes separat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        (PRINCIPLE OF SEGREGATION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GAMETES (egg or sperm) contain either a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lele (tall) or a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llele (shor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167360" y="5792760"/>
            <a:ext cx="1753920" cy="14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095560" y="104760"/>
            <a:ext cx="5968800" cy="741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